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73A2-56FD-44C7-AFCC-AD1D66F57EF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2D5B-1983-4CA3-A985-B5C267452DF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8863-E784-4A7A-B3BB-C450241F510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99C8-B594-439E-A30B-3027D667CF9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11EE-5C12-4282-A767-56A87F9A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8325-E971-4A56-90A6-66A02742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16CD-9C21-4437-873F-9C7EBFA8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81D9-7AD9-4808-8328-57775504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975D-84FA-45B7-AFF9-A5CE3AA3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0959-DB20-4BA3-9C3E-FB35BD7A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3801-A445-44AA-9B4D-E43B4094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F237-F154-4FB3-AEE4-1C359A3B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1CDC-71E3-41EE-9D5C-D42C1CCB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2E43-834F-4AC8-B4B7-8CC10444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EA07-228E-4C8B-8209-6C1208A8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1FB1-94FD-40B1-BDBF-BC6C25D7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5768-D4F9-47F0-930B-D3D05F40859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5.6 Impact of the Aging Boom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341360"/>
            <a:ext cx="92422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Boomers as Seni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ny boomers will also take up “second career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Boomers as Seni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y will also contribute to the economy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2708280"/>
            <a:ext cx="9144000" cy="4149720"/>
          </a:xfrm>
          <a:prstGeom prst="rect">
            <a:avLst/>
          </a:prstGeom>
          <a:ln w="0">
            <a:noFill/>
          </a:ln>
        </p:spPr>
      </p:pic>
      <p:pic>
        <p:nvPicPr>
          <p:cNvPr id="82" name="Rectangle 3" descr=""/>
          <p:cNvPicPr/>
          <p:nvPr/>
        </p:nvPicPr>
        <p:blipFill>
          <a:blip r:embed="rId2"/>
          <a:stretch/>
        </p:blipFill>
        <p:spPr>
          <a:xfrm>
            <a:off x="4273560" y="5767560"/>
            <a:ext cx="518148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Boomers as Seni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peting Perspectives pg 164-165 #1,2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use and reflect page 168 #1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Dependency 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day, many baby boomers are preparing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0" y="2708280"/>
            <a:ext cx="90360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Dependency 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Echo kids will fill their place in the work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y the year 2020 most boomers will be retired or close t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ome people wonder if we will be able to support the large mass of aging boomers who will increasingly rely upon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Dependency 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ependency Load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 the measure of the proportion of the national population that is dependent and not actively empl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igh dependency loads make it very difficult for the working population to meet the needs of children and sen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Dependency 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en the proportion of income earners in a population is low, governments must either levy high taxes or burrow heavily to provide essent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887640" y="3544920"/>
            <a:ext cx="5256360" cy="3284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0" y="354348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3" descr=""/>
          <p:cNvPicPr/>
          <p:nvPr/>
        </p:nvPicPr>
        <p:blipFill>
          <a:blip r:embed="rId3"/>
          <a:stretch/>
        </p:blipFill>
        <p:spPr>
          <a:xfrm>
            <a:off x="3571920" y="5724360"/>
            <a:ext cx="5950080" cy="15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Dependency 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3" descr=""/>
          <p:cNvPicPr/>
          <p:nvPr/>
        </p:nvPicPr>
        <p:blipFill>
          <a:blip r:embed="rId3"/>
          <a:stretch/>
        </p:blipFill>
        <p:spPr>
          <a:xfrm>
            <a:off x="-334800" y="5724360"/>
            <a:ext cx="7821360" cy="15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Dependency 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pic>
        <p:nvPicPr>
          <p:cNvPr id="70" name="Rectangle 3" descr=""/>
          <p:cNvPicPr/>
          <p:nvPr/>
        </p:nvPicPr>
        <p:blipFill>
          <a:blip r:embed="rId3"/>
          <a:stretch/>
        </p:blipFill>
        <p:spPr>
          <a:xfrm>
            <a:off x="-347760" y="5767560"/>
            <a:ext cx="645012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boomers as Seni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ny boomers are ready for their ret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1/3 of taxpayers also contribute to RRSP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overnment pension funds will not be able to support a generation expected to live 15 to 25 yrs after they ret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Boomers as Seni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wo other factors suggest that the impact of the boomers need not be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2637000"/>
            <a:ext cx="90360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Jason</cp:lastModifiedBy>
  <dcterms:modified xsi:type="dcterms:W3CDTF">2011-01-02T16:27:41Z</dcterms:modified>
  <cp:revision>94</cp:revision>
  <dc:subject/>
  <dc:title>TITLE</dc:title>
</cp:coreProperties>
</file>